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110-FFA5-49E2-83B0-DA0EEC8F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29B-87B7-4B17-93EF-A395ADBB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518-45AB-4218-BCBD-0DBD11F6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5A90-B39E-4B97-8DD5-05171D03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0D9-7960-463A-87AC-25246E50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E7AB-3413-4A15-9B16-88B089D5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35A-24ED-46BC-8FF3-4619A3EF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9DF-5A09-4AB0-8C97-234AD647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56E-BB99-4B43-88D1-4FC671E1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CD4-85A0-4008-8C89-9919A8F6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50A-7B71-4342-A7B9-FB176321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49F-54D0-447D-8F03-F642F3E9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01C4-ADD0-4D1C-814D-90E60B0B4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2913-AAF0-4B7C-AB7A-1D042E21DD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ервер состоит из программы-демона dhcpd, ее конфигурационного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dhcpd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pd.lease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в который сервер заносит информацию о выделенных адре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работы с сервером необходимо создать конфигурационный файл, после чего запустить программу-дем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DHCP сервер под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586C-2F55-4E47-BFE7-EC758E7B1B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В конфигурационном файле определяются пространства IP-адресов, назначаемых клиентам, дополнительная информация по конфигурации стека TCP/IP, передаваемая клиентам, а также описываются хосты, которым назначаются фиксированные IP-адреса (по MAC-адресу хост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F13C-EBAE-4BAE-BF22-9EA0110F15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каждой обслуживаемой сервером IP-сети создается отдельный раздел, где указыва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сети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etmask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иапазон(ы) выдаваемых IP-адресов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rang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ремя по умолчанию, на которое выдается адрес, в секундах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efault-lease-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ксимальное время, на которое может быть выдан адрес, если хост запрашивает конкретное время, в секундах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x-lease-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Конфигурационный 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2A51-DFAC-4020-BE8E-E5C9D01C02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сети, передаваемая клиенту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subnet-mask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широковещательный адрес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broadcast-addres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дреса шлюзов (для маршрута по умолчанию)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router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мя домена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omain-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дреса DNS-серверов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omain-name-server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Дополнительные опции (op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59B4-4458-4843-8D9F-035BBA95D0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subnet 194.84.124.0 netmask 255.255.255.0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range 194.84.124.100 194.84.124.12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range 194.84.124.200 194.84.124.25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default-lease-time 600 max-lease-time 720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subnet-mask 255.255.255.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broadcast-address 194.84.124.25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routers 194.84.124.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domain-name-servers 194.84.124.4, 193.232.88.1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3. Пример конфигу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FCC5-2FC5-4D9C-B35A-A85016912E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host ocean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hardware ethernet 08:00:26:4c:54:2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fixed-address 194.84.124.2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domain-name-servers 194.84.124.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Пример раздела конфигурации хо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3791-A4B5-4AD7-873C-34CD34BB14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HCP клиент под Unix (от Internet Software Consortium) состоит из программы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lien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нфигурационного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dhclient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lient.lease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который клиент заносит информацию о выданных ему адресах и настрой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DHCP-клиент под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99CA-C40F-4970-BF9E-F65F5F60BA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try 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период повторных попыток соединения с сервером в случае неудачи; измеряется в секундах, по умолчанию - 300 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quest op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запросить у сервера передачу опции option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quire op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в случае, если сервер не передал опцию option, отвергнуть конфигурацию, предложенную сервер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nd option declara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передать серверу значени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eclara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пции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Директив конфигурационного фай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169A-52C3-4DD1-A45A-A06F7D69D6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default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установить значение declaration для опции option, если сервер не передал эту опцию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supersede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установить значение declaration для опции option, независимо от того, что передал сервер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prepend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добавить значение для опции к значению, переданному сервером, поставив свое значение первым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append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добавить значение для опции к значению, переданному сервером, поставив свое значение последни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Директив конфигурационного фай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ачем нужно динамическое распределение IP-адресо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кажите преимущества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динамического распределения IP-адресов и недостатки по сравнению со статичес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е функции выполняет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HCP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ерве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м образом происходит конфигурирование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HCP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ервер и клиен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е данные передает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HCP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ервер клиент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1) Протокол DH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2) DHCP-клиенты и сер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3) Конфигур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0D61-7230-42BF-A065-9F1A21471D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Цель: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научиться настраивать сервер DHC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Основная концепция: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DHCP-сервер, получая запрос на конфигурацию от хоста, предлагает ему настройки стека TCP/IP. Эти настройки могут быть как индивидуальными для хоста, так и создаваться динамически с учетом свободных в настоящий момент ресурсов (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IP-адресов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). Настройки могут выдаваться сервером в пользование хосту на определен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DHCP-серв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BB25-E626-4A67-A4D5-DFA9853394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Использование протокола DHCP в сети предприятия может быть вызвана необходимостью автоматизировать конфигурирование большого числа пользовательских рабочих станций для работы с протоколами TCP/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Также важно, что при переносе компьютера из одной сети в другую не требуется ручного изменения его настро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. Протокол DH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0BE5-4966-4DB8-97F9-E026BBB79A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астройки стека TCP/IP передаются рабочей станции сервером DHCP после того, как станция во время своей загрузки выдаст широковещательный запрос параметров своей конфигурации, на который и откликается сервер. Данные конфигурации включают в себя IP-адрес рабочей станции, а также (опционально) адреса маршрутизатора (шлюза) и сервера DNS, имя домена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82C4-30BD-449C-A4CC-AD34992559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ервер получает запрос и откликается с предложением об аренде (lease), содержащим конфигурационные данные для хо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Хост может получить предложения от нескольких DHCP-серверов, работающих в его сети. Хост, на основании настроек своего DHCP-клиента, решает принять предложение определенного сервера (или принять первое поступившее предложение, если никаких настроек н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Хост отвечает выбранному серверу сообщением "выбор". Сервер подтверждает выдачу аренды; после получения подтверждения хост конфигурирует себя в соответствии с полученными дан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Взаимодействия сервера и кли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9975-DDB9-496E-89D5-19B9B383DE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дин DHCP-сервер может работать в нескольких сетях. Для этого в каждой сети должен быть сконфигурирован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P-rela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специальный посредник, который будет ретранслировать сообщения между сервером и хостом, запросившим конфигур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Без посредника DHCP-сервер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не услышит запросов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так как широковещательные IP-дейтаграммы не выходят за пределы IP-се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DHCP-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B0EC-BD48-49DD-BB07-1FF37EE9EC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IP-адрес, присваиваемый рабочей станции, может браться сервером из пространства специально для этого выделенных адресов (берется первый свободный адрес). В этом случае у рабочей станции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нет постоянного IP-адрес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IP-адрес, присваиваемый конкретной рабочей станции, может быть и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фиксированным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, для этого надо знать MAC-адрес (Ethernet-адрес) рабочей станции и соответствующим образом настроить серв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5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20:53Z</dcterms:modified>
  <cp:revision>177</cp:revision>
  <dc:subject/>
  <dc:title>Lecture Template </dc:title>
</cp:coreProperties>
</file>